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D03-C137-4DCA-8809-DD67BAE8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74A-0EEA-43A2-9032-ACC8CE3C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FC8-59D2-4D4D-9851-C2326676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EC3-18C8-48F1-A2EF-C4E36700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5EA2-E159-4A38-9838-FB2095E4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5EF3-90C7-48B6-9E59-C6046F7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C453-4832-47E6-AA46-19F0D8C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F479-BA4F-4182-99B7-41E42E72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22B6-C2C1-477A-8405-B9A21D8F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017D-864F-4D68-9AF1-A2FED333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8A0-4537-41D9-8233-5971E17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873-C595-48C9-92EC-01D7D6AE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C965-4D1D-4648-9A9C-DCCE97A0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B773-8BE3-4393-90E1-E194E7C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F53-2AFF-4AF7-BC83-51216EE8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60AE-2163-4B91-A9E0-728B5511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D35-326C-4A9E-B438-FF47C474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1EC-1C34-4A22-9942-CA7D17F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345-2B97-4C69-85F9-F1D866CB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B4D-EAF3-4F2A-82BF-B62F518A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E89-A0FC-4922-9361-F189D563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287-526A-4528-BFB0-BA50ED4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C7D-9614-4E98-B54A-A0EE7579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147-51DA-4422-8C3E-5C50BA2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39C5-D9D5-4B0A-A6C1-20524D5D51D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138-466E-499E-A987-ED0735DBEA9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F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u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br>
              <a:rPr sz="8000"/>
            </a:b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E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g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y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p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t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i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n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 P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r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W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m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e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n P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r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Curlz MT"/>
              </a:rPr>
              <a:t>Hatshepsut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Curlz MT"/>
              </a:rPr>
              <a:t>Cleopatr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Hatshepsu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386480" cy="44971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tshepsut was an 18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dynasty pharaoh w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as the daughter of Thutmose 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When Thutmose died, his son, Thutmose 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cceeded him and, as was the custom, 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arried his stepsister, Hatshepsu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en Thutmose II died, Hatshepsut  becam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utmose III’s regent and eventually appoint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rself pharao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eopat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was not of true Egyptian lineage. She was descended from Macedonia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became pharaoh when she was 17 years old and ruled with her father, and then with her younger brother, Ptolemy XII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was called “Queen of the Nil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Commited suicide in 30 B.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Pop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ho was Hatshepsut?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How many</a:t>
            </a: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dynasties were ther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What were the gaps of time in between the kingdoms lik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Who did the pharaohs turn to when they needed advic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9:15Z</dcterms:created>
  <dc:creator>Default</dc:creator>
  <dc:description/>
  <dc:language>en-US</dc:language>
  <cp:lastModifiedBy>Default</cp:lastModifiedBy>
  <dcterms:modified xsi:type="dcterms:W3CDTF">2009-01-12T18:01:49Z</dcterms:modified>
  <cp:revision>6</cp:revision>
  <dc:subject/>
  <dc:title>Egyptian Pharaohs</dc:title>
</cp:coreProperties>
</file>